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4AC-FCCA-438C-82D5-30B39B86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2DA-796F-4446-9924-0CB62F2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748-5C72-423F-A9C3-F70B3780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7A7-D79F-41F5-9763-E46A032D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C3F-484A-44A0-9226-1A5649B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120-1422-41D7-9542-A0FC0B1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2E1-152A-4C09-B6BF-CB79AFA1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7CD-E811-46F9-A3B5-8B48634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377-DD01-4938-8EFC-8AA41C4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A88-66CB-4590-9621-35A4204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9C8-7BE4-4CF9-8E7F-FE712E0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108-E9DC-4911-B63C-5CE7947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F068-7F2A-4D3A-882E-E70E2C5F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6028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作  学会记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16280"/>
            <a:ext cx="8532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导学生学会从平凡小事中感受生活，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，学习做人的道理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培养学生思维的逻辑性和条理性，把事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过写清楚，懂得写事件要抓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努力培养思维的灵活性和独创性，鼓励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抒写生活的真情实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名师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4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的小作者侧重叙写了自己一次逃避课间操的过程。记叙的要素都交代得很清楚，并且按照事情发展的先后顺序叙事，条理很清楚。特别是作者讲了真话，叙了真事，期间的感情变化确是作者的真实情感。全文以“我”的感情变化为线索，串联起众多材料，文脉贯通，组成一个整体。从开始的“怕冷”“不想出去做操”到“不由暗喜”，从“心里总有点不自在”到“担心露陷”，从“心里真不是滋味，脸上火辣辣的”到“惭愧得脸红到脖子根”，这些心理描写逼真而又细腻，且与所写的中心事件紧密相关，层层推进，有力地表达了本文的中心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7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条理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具体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56040" y="2637000"/>
            <a:ext cx="12776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事五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56536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20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、文题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小到现在，有多少令你难忘的“那一次”：那一次，你笑了；那一次，你哭了；那一次，你真遗憾；那一次，你真尴尬……正是经历了这无数的“那一次”，你才懂得了生活的幸福，友情的珍贵，奋进的艰辛及你肩负的责任……真正领悟到了生活的内涵，长大了，成熟了。请从你的生活中选择一件事，以“那一次，我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为题，写一篇记叙文，并写出你的真情实感。要求：①在文题横线上填上恰当的词语，使文题完整。②记事要完整、具体，中心明确，详略得当；语言要简明、连贯、通顺。④字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，书写要工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7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写作导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怎样才能记述好一件事呢？可以从以下几个方面入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记事要完整。即要交代清楚事情发生的地点、时间、人物、事情起因、经过和结果。但交代这六要素不应该呆板，要根据文章的需要灵活掌握。时间、地点也并不是非要直接点明的，有时候可以通过描述自然景物的特征及其变化，将它们间接表示出来。如“鸡喔喔叫了起来”就是指天将亮了；“西边的太阳就要落山了”指的是傍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记事要有详有略，重点突出。在记叙六要素中，起因、经过和结果是构成事情最主要的环节。为了把事情写得清楚明白，记叙时就一定要写好事情的起因、经过和结果，特别要把事情的经过写具体，给人留下完整而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记事要有条理。一件事都有发生、发展和结果的过程，按照事情发展的顺序记叙，文章的条理就会清楚明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记事要具体。要试着运用多种描写手法（如语言、动作、心理、神态、外貌、环境描写等）具体、生动地再现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记事要有真情实感。记事是为了传情达意，有真情实感的材料才能打动读者，才能与读者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893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例文引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次，我非常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每当想起那件事，我的脸马上就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那是一个冬天的早晨，天气非常寒冷，外面刮着凄厉的北风，地上都冻得硬硬的。早上第一节课下后，该做广播操了。我怕冷，真不想出去做操，可是，有什么办法呢？我缩着脖子琢磨起来。一个念头忽然跳入我的脑海：前天沙晓娟同学说肚子疼，夏老师不是没让她做操吗？我不如也装肚子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里响起了《运动员进行曲》，同学们照例出去排队了。我坐在位置上，右手捂着肚子，左手放在桌上，脑袋垂得低低的，嘴里还不时地哼哼。夏老师走进来，见我这副痛苦模样，便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549360"/>
            <a:ext cx="82803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地问：“赵志达，怎么啦？身体不舒服吗？”一边说，一边用手摸了摸我的额头。“肚子疼。”我无力地点了点头。“要不要到学校诊所，去拿点药吃一下？”“不用了，早晨吃过了，还是有点疼。”“那你今天就别去做操了，以免再受凉，好好休息一会儿，也许就好了。”说完，老师就走出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心里悬着的一块石头终于落了地，不由暗喜，这么容易就躲过去了！我慢慢走到窗边，看见同学们正迎着大风，整齐而有力地做操。不知什么原因，心里总有点不自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操结束后，同学们回到班上，纷纷围着我嘘寒问暖。有的问：“你肚子还疼吗？”有的说：“多揉揉就不疼了！”还有的说：“要不，我陪你去学校诊所看一看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549360"/>
            <a:ext cx="78850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连忙说“不要紧的，不要紧的，我吃了药，休息一会儿马上就会好的。”大家听了，也就放心了，一起出去玩了。看着他们玩得正高兴，我脚都发痒了，但因为担心露馅，只好坐在位置上埋头“休息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节上语文课，夏老师讲得眉飞色舞，同学们也踊跃发言。平时我是个爱发言的人，一时忘了自己“生病”，忍不住高高举起手来。当我响亮地答对了问题时，老师不仅肯定我思维敏捷，声音响亮，还当场对我大加表扬：“赵志达同学今天身体不舒服，还这么积极地回答问题，我们大家要好好地向他学习！”同学们都不约而同地鼓起掌来，而我心里真不是滋味，脸上火辣辣的，仿佛那一个个巴掌正抽在我的脸上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1413000"/>
            <a:ext cx="75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这件事深深地印在我的脑海里，每当我想起它，就惭愧得脸红到脖子根。因为惰性发作，我撒了谎，欺骗老师，欺骗同学，欺骗自己。而老师的关怀和表扬，同学的问候与情谊，却像寒冬的一缕缕阳光，照在我心上，暖乎乎的。我想，今后，再也不能做这种荒唐的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14:04:57Z</dcterms:created>
  <dc:creator>lenovo</dc:creator>
  <dc:description/>
  <dc:language>en-US</dc:language>
  <cp:lastModifiedBy>User</cp:lastModifiedBy>
  <dcterms:modified xsi:type="dcterms:W3CDTF">2018-10-08T02:43:2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